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5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png" ContentType="image/png"/>
  <Override PartName="/ppt/media/image17.png" ContentType="image/png"/>
  <Override PartName="/ppt/media/image20.png" ContentType="image/png"/>
  <Override PartName="/ppt/media/image11.png" ContentType="image/png"/>
  <Override PartName="/ppt/media/image16.wmf" ContentType="image/x-wmf"/>
  <Override PartName="/ppt/media/image8.png" ContentType="image/png"/>
  <Override PartName="/ppt/media/image28.png" ContentType="image/png"/>
  <Override PartName="/ppt/media/image13.wmf" ContentType="image/x-wmf"/>
  <Override PartName="/ppt/media/image30.png" ContentType="image/png"/>
  <Override PartName="/ppt/media/image5.png" ContentType="image/png"/>
  <Override PartName="/ppt/media/image9.png" ContentType="image/png"/>
  <Override PartName="/ppt/media/image33.wmf" ContentType="image/x-wmf"/>
  <Override PartName="/ppt/media/image37.png" ContentType="image/png"/>
  <Override PartName="/ppt/media/image7.png" ContentType="image/png"/>
  <Override PartName="/ppt/media/image12.png" ContentType="image/png"/>
  <Override PartName="/ppt/media/image35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gif" ContentType="image/gif"/>
  <Override PartName="/ppt/media/image18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CD21-F005-4710-A579-7F28C0F4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EBD4-B5B1-4739-B00A-1259E9B6D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4BBF-F04F-4BDE-BBD2-38D1C6C55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02BE-37DF-4FA7-9FA3-3A4D0DB7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31C8-0CC1-4409-B748-A14A6F030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C2B-71D0-4F08-B8F5-4143D3D0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66E1-F656-408A-B8E6-D20A2FA80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4A2-2954-4F54-ACB1-E125022E4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7E09-DECC-4F06-9D68-CB2B558E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127F-E955-4116-82FE-B603E80B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9C61-7740-44AC-983B-C677CFA7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145C-8D95-4ED9-A6AA-0B2BF11E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583B-3E1C-40D4-8CF8-17CE16E99C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" Target="slide10.xm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" Target="slide9.xml"/><Relationship Id="rId5" Type="http://schemas.openxmlformats.org/officeDocument/2006/relationships/image" Target="../media/image12.png"/><Relationship Id="rId6" Type="http://schemas.openxmlformats.org/officeDocument/2006/relationships/slide" Target="slide10.xml"/><Relationship Id="rId7" Type="http://schemas.openxmlformats.org/officeDocument/2006/relationships/image" Target="../media/image7.png"/><Relationship Id="rId8" Type="http://schemas.openxmlformats.org/officeDocument/2006/relationships/package" Target="../embeddings/oleObject1.docx"/><Relationship Id="rId9" Type="http://schemas.openxmlformats.org/officeDocument/2006/relationships/image" Target="../media/image13.wmf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10.xml"/><Relationship Id="rId3" Type="http://schemas.openxmlformats.org/officeDocument/2006/relationships/image" Target="../media/image18.png"/><Relationship Id="rId4" Type="http://schemas.openxmlformats.org/officeDocument/2006/relationships/slide" Target="slide10.xml"/><Relationship Id="rId5" Type="http://schemas.openxmlformats.org/officeDocument/2006/relationships/image" Target="../media/image19.png"/><Relationship Id="rId6" Type="http://schemas.openxmlformats.org/officeDocument/2006/relationships/slide" Target="slide10.xml"/><Relationship Id="rId7" Type="http://schemas.openxmlformats.org/officeDocument/2006/relationships/image" Target="../media/image20.png"/><Relationship Id="rId8" Type="http://schemas.openxmlformats.org/officeDocument/2006/relationships/slide" Target="slide9.xml"/><Relationship Id="rId9" Type="http://schemas.openxmlformats.org/officeDocument/2006/relationships/image" Target="../media/image21.png"/><Relationship Id="rId10" Type="http://schemas.openxmlformats.org/officeDocument/2006/relationships/package" Target="../embeddings/oleObject1.docx"/><Relationship Id="rId11" Type="http://schemas.openxmlformats.org/officeDocument/2006/relationships/image" Target="../media/image22.wmf"/><Relationship Id="rId12" Type="http://schemas.openxmlformats.org/officeDocument/2006/relationships/package" Target="../embeddings/oleObject2.docx"/><Relationship Id="rId13" Type="http://schemas.openxmlformats.org/officeDocument/2006/relationships/image" Target="../media/image23.wmf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" Target="slide9.xml"/><Relationship Id="rId3" Type="http://schemas.openxmlformats.org/officeDocument/2006/relationships/package" Target="../embeddings/oleObject1.docx"/><Relationship Id="rId4" Type="http://schemas.openxmlformats.org/officeDocument/2006/relationships/image" Target="../media/image25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2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package" Target="../embeddings/oleObject1.docx"/><Relationship Id="rId7" Type="http://schemas.openxmlformats.org/officeDocument/2006/relationships/image" Target="../media/image33.wmf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573120" y="2073240"/>
            <a:ext cx="7789680" cy="114624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4071960" y="500040"/>
            <a:ext cx="1566720" cy="9208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8" descr="owl"/>
          <p:cNvPicPr/>
          <p:nvPr/>
        </p:nvPicPr>
        <p:blipFill>
          <a:blip r:embed="rId3"/>
          <a:stretch/>
        </p:blipFill>
        <p:spPr>
          <a:xfrm>
            <a:off x="3214800" y="3000240"/>
            <a:ext cx="292896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13"/>
          <p:cNvGrpSpPr/>
          <p:nvPr/>
        </p:nvGrpSpPr>
        <p:grpSpPr>
          <a:xfrm>
            <a:off x="3071880" y="1214280"/>
            <a:ext cx="3499560" cy="4428720"/>
            <a:chOff x="3071880" y="1214280"/>
            <a:chExt cx="3499560" cy="4428720"/>
          </a:xfrm>
        </p:grpSpPr>
        <p:pic>
          <p:nvPicPr>
            <p:cNvPr id="111" name="Picture 111" descr="professor4"/>
            <p:cNvPicPr/>
            <p:nvPr/>
          </p:nvPicPr>
          <p:blipFill>
            <a:blip r:embed="rId1"/>
            <a:stretch/>
          </p:blipFill>
          <p:spPr>
            <a:xfrm>
              <a:off x="3071880" y="1820160"/>
              <a:ext cx="331668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WordArt 112"/>
            <p:cNvSpPr txBox="1"/>
            <p:nvPr/>
          </p:nvSpPr>
          <p:spPr>
            <a:xfrm>
              <a:off x="3387600" y="1214280"/>
              <a:ext cx="3183840" cy="819720"/>
            </a:xfrm>
            <a:prstGeom prst="rect">
              <a:avLst/>
            </a:prstGeom>
          </p:spPr>
          <p:txBody>
            <a:bodyPr wrap="none" fromWordArt="1" lIns="90000" rIns="90000" tIns="46800" bIns="46800" anchor="t">
              <a:prstTxWarp prst="textArchUp">
                <a:avLst>
                  <a:gd name="adj" fmla="val 1080001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одумай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13" name="Управляющая кнопка: возврат 6">
            <a:hlinkClick r:id="" action="ppaction://hlinkshowjump?jump=previousslide"/>
          </p:cNvPr>
          <p:cNvSpPr/>
          <p:nvPr/>
        </p:nvSpPr>
        <p:spPr>
          <a:xfrm>
            <a:off x="8101080" y="6215040"/>
            <a:ext cx="1042920" cy="642960"/>
          </a:xfrm>
          <a:custGeom>
            <a:avLst/>
            <a:gdLst>
              <a:gd name="textAreaLeft" fmla="*/ 41400 w 1042920"/>
              <a:gd name="textAreaRight" fmla="*/ 1001520 w 10429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5029" h="21600">
                <a:moveTo>
                  <a:pt x="0" y="0"/>
                </a:moveTo>
                <a:lnTo>
                  <a:pt x="35029" y="0"/>
                </a:lnTo>
                <a:lnTo>
                  <a:pt x="35029" y="21600"/>
                </a:lnTo>
                <a:lnTo>
                  <a:pt x="0" y="21600"/>
                </a:lnTo>
                <a:close/>
              </a:path>
              <a:path fill="lightenLess" w="35029" h="21600">
                <a:moveTo>
                  <a:pt x="0" y="0"/>
                </a:moveTo>
                <a:lnTo>
                  <a:pt x="35029" y="0"/>
                </a:lnTo>
                <a:lnTo>
                  <a:pt x="33629" y="1400"/>
                </a:lnTo>
                <a:lnTo>
                  <a:pt x="1400" y="1400"/>
                </a:lnTo>
                <a:close/>
              </a:path>
              <a:path fill="darken" w="35029" h="21600">
                <a:moveTo>
                  <a:pt x="35029" y="0"/>
                </a:moveTo>
                <a:lnTo>
                  <a:pt x="35029" y="21600"/>
                </a:lnTo>
                <a:lnTo>
                  <a:pt x="33629" y="20200"/>
                </a:lnTo>
                <a:lnTo>
                  <a:pt x="33629" y="1400"/>
                </a:lnTo>
                <a:close/>
              </a:path>
              <a:path fill="darkenLess" w="35029" h="21600">
                <a:moveTo>
                  <a:pt x="35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29" y="20200"/>
                </a:lnTo>
                <a:close/>
              </a:path>
              <a:path fill="lighten" w="35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29" h="21600">
                <a:moveTo>
                  <a:pt x="10508" y="7493"/>
                </a:moveTo>
                <a:lnTo>
                  <a:pt x="14016" y="7493"/>
                </a:lnTo>
                <a:lnTo>
                  <a:pt x="14016" y="12828"/>
                </a:lnTo>
                <a:cubicBezTo>
                  <a:pt x="14016" y="13751"/>
                  <a:pt x="14816" y="14482"/>
                  <a:pt x="15852" y="14482"/>
                </a:cubicBezTo>
                <a:lnTo>
                  <a:pt x="17514" y="14482"/>
                </a:lnTo>
                <a:cubicBezTo>
                  <a:pt x="18550" y="14482"/>
                  <a:pt x="19351" y="13751"/>
                  <a:pt x="19351" y="12828"/>
                </a:cubicBezTo>
                <a:lnTo>
                  <a:pt x="19351" y="7493"/>
                </a:lnTo>
                <a:lnTo>
                  <a:pt x="17514" y="7493"/>
                </a:lnTo>
                <a:lnTo>
                  <a:pt x="21022" y="3985"/>
                </a:lnTo>
                <a:lnTo>
                  <a:pt x="24695" y="7493"/>
                </a:lnTo>
                <a:lnTo>
                  <a:pt x="22859" y="7493"/>
                </a:lnTo>
                <a:lnTo>
                  <a:pt x="22859" y="12828"/>
                </a:lnTo>
                <a:cubicBezTo>
                  <a:pt x="22859" y="15596"/>
                  <a:pt x="20282" y="18155"/>
                  <a:pt x="17514" y="18155"/>
                </a:cubicBezTo>
                <a:lnTo>
                  <a:pt x="15852" y="18155"/>
                </a:lnTo>
                <a:cubicBezTo>
                  <a:pt x="13084" y="18155"/>
                  <a:pt x="10508" y="15596"/>
                  <a:pt x="10508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Прямоугольник 4" descr=""/>
          <p:cNvPicPr/>
          <p:nvPr/>
        </p:nvPicPr>
        <p:blipFill>
          <a:blip r:embed="rId1"/>
          <a:stretch/>
        </p:blipFill>
        <p:spPr>
          <a:xfrm>
            <a:off x="2425680" y="1359000"/>
            <a:ext cx="3614760" cy="199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Object 3"/>
          <p:cNvGraphicFramePr/>
          <p:nvPr/>
        </p:nvGraphicFramePr>
        <p:xfrm>
          <a:off x="3143160" y="3214800"/>
          <a:ext cx="2214720" cy="2481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43160" y="3214800"/>
                    <a:ext cx="221472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Box 6"/>
          <p:cNvSpPr/>
          <p:nvPr/>
        </p:nvSpPr>
        <p:spPr>
          <a:xfrm>
            <a:off x="5441040" y="5715000"/>
            <a:ext cx="346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БОУ «Комсомольская СОШ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читель: Киреева А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215200" y="621504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22605" y="10800"/>
                </a:lnTo>
                <a:lnTo>
                  <a:pt x="859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Прямоугольник 5" descr=""/>
          <p:cNvPicPr/>
          <p:nvPr/>
        </p:nvPicPr>
        <p:blipFill>
          <a:blip r:embed="rId1"/>
          <a:stretch/>
        </p:blipFill>
        <p:spPr>
          <a:xfrm>
            <a:off x="-60480" y="-42840"/>
            <a:ext cx="9264960" cy="89064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1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12760" y="1285920"/>
            <a:ext cx="714240" cy="920880"/>
          </a:xfrm>
          <a:prstGeom prst="rect">
            <a:avLst/>
          </a:prstGeom>
          <a:ln w="0">
            <a:noFill/>
          </a:ln>
        </p:spPr>
      </p:pic>
      <p:pic>
        <p:nvPicPr>
          <p:cNvPr id="47" name="Схема 22" descr=""/>
          <p:cNvPicPr/>
          <p:nvPr/>
        </p:nvPicPr>
        <p:blipFill>
          <a:blip r:embed="rId4"/>
          <a:stretch/>
        </p:blipFill>
        <p:spPr>
          <a:xfrm>
            <a:off x="841320" y="914400"/>
            <a:ext cx="8089920" cy="1852560"/>
          </a:xfrm>
          <a:prstGeom prst="rect">
            <a:avLst/>
          </a:prstGeom>
          <a:ln w="0">
            <a:noFill/>
          </a:ln>
        </p:spPr>
      </p:pic>
      <p:pic>
        <p:nvPicPr>
          <p:cNvPr id="48" name="Прямоугольник 16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60360" y="5145120"/>
            <a:ext cx="712800" cy="920880"/>
          </a:xfrm>
          <a:prstGeom prst="rect">
            <a:avLst/>
          </a:prstGeom>
          <a:ln w="0">
            <a:noFill/>
          </a:ln>
        </p:spPr>
      </p:pic>
      <p:sp>
        <p:nvSpPr>
          <p:cNvPr id="49" name="TextBox 7"/>
          <p:cNvSpPr/>
          <p:nvPr/>
        </p:nvSpPr>
        <p:spPr>
          <a:xfrm>
            <a:off x="3143160" y="3500280"/>
            <a:ext cx="57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mbria"/>
                <a:ea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vveden1_2"/>
          <p:cNvPicPr/>
          <p:nvPr/>
        </p:nvPicPr>
        <p:blipFill>
          <a:blip r:embed="rId7"/>
          <a:stretch/>
        </p:blipFill>
        <p:spPr>
          <a:xfrm>
            <a:off x="3517920" y="2714760"/>
            <a:ext cx="1554120" cy="214308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4929120" y="2714760"/>
            <a:ext cx="57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mbria"/>
                <a:ea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3571920" y="2571840"/>
            <a:ext cx="57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mbria"/>
                <a:ea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Группа 26"/>
          <p:cNvGrpSpPr/>
          <p:nvPr/>
        </p:nvGrpSpPr>
        <p:grpSpPr>
          <a:xfrm>
            <a:off x="785880" y="4786200"/>
            <a:ext cx="7650000" cy="1568520"/>
            <a:chOff x="785880" y="4786200"/>
            <a:chExt cx="7650000" cy="1568520"/>
          </a:xfrm>
        </p:grpSpPr>
        <p:sp>
          <p:nvSpPr>
            <p:cNvPr id="54" name="Нашивка 27"/>
            <p:cNvSpPr/>
            <p:nvPr/>
          </p:nvSpPr>
          <p:spPr>
            <a:xfrm>
              <a:off x="785880" y="4786200"/>
              <a:ext cx="7650000" cy="1568520"/>
            </a:xfrm>
            <a:custGeom>
              <a:avLst/>
              <a:gdLst>
                <a:gd name="textAreaLeft" fmla="*/ 0 w 7650000"/>
                <a:gd name="textAreaRight" fmla="*/ 7650360 w 7650000"/>
                <a:gd name="textAreaTop" fmla="*/ 0 h 1568520"/>
                <a:gd name="textAreaBottom" fmla="*/ 1568880 h 1568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385" y="0"/>
                  </a:lnTo>
                  <a:lnTo>
                    <a:pt x="21600" y="10800"/>
                  </a:lnTo>
                  <a:lnTo>
                    <a:pt x="19385" y="21600"/>
                  </a:lnTo>
                  <a:lnTo>
                    <a:pt x="0" y="21600"/>
                  </a:lnTo>
                  <a:lnTo>
                    <a:pt x="2215" y="10800"/>
                  </a:lnTo>
                  <a:close/>
                </a:path>
              </a:pathLst>
            </a:custGeom>
            <a:solidFill>
              <a:srgbClr val="e0873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Нашивка 4"/>
            <p:cNvSpPr/>
            <p:nvPr/>
          </p:nvSpPr>
          <p:spPr>
            <a:xfrm>
              <a:off x="1569960" y="4786200"/>
              <a:ext cx="6081840" cy="15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0680" rIns="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1400"/>
                </a:spcAft>
                <a:tabLst>
                  <a:tab algn="l" pos="0"/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Calibri"/>
                </a:rPr>
                <a:t>Это часть речи, которая обозначает предметы и отвечает на вопрос  что делает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Схема 8" descr=""/>
          <p:cNvPicPr/>
          <p:nvPr/>
        </p:nvPicPr>
        <p:blipFill>
          <a:blip r:embed="rId1"/>
          <a:stretch/>
        </p:blipFill>
        <p:spPr>
          <a:xfrm>
            <a:off x="0" y="122400"/>
            <a:ext cx="9339120" cy="1083960"/>
          </a:xfrm>
          <a:prstGeom prst="rect">
            <a:avLst/>
          </a:prstGeom>
          <a:ln w="0">
            <a:noFill/>
          </a:ln>
        </p:spPr>
      </p:pic>
      <p:pic>
        <p:nvPicPr>
          <p:cNvPr id="57" name="Схема 6" descr=""/>
          <p:cNvPicPr/>
          <p:nvPr/>
        </p:nvPicPr>
        <p:blipFill>
          <a:blip r:embed="rId2"/>
          <a:stretch/>
        </p:blipFill>
        <p:spPr>
          <a:xfrm>
            <a:off x="1060560" y="1584360"/>
            <a:ext cx="7845480" cy="1324080"/>
          </a:xfrm>
          <a:prstGeom prst="rect">
            <a:avLst/>
          </a:prstGeom>
          <a:ln w="0">
            <a:noFill/>
          </a:ln>
        </p:spPr>
      </p:pic>
      <p:pic>
        <p:nvPicPr>
          <p:cNvPr id="58" name="Схема 7" descr=""/>
          <p:cNvPicPr/>
          <p:nvPr/>
        </p:nvPicPr>
        <p:blipFill>
          <a:blip r:embed="rId3"/>
          <a:stretch/>
        </p:blipFill>
        <p:spPr>
          <a:xfrm>
            <a:off x="1274760" y="4084560"/>
            <a:ext cx="7631280" cy="148104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9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85840" y="1785960"/>
            <a:ext cx="714240" cy="92088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10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85840" y="4359240"/>
            <a:ext cx="714240" cy="919080"/>
          </a:xfrm>
          <a:prstGeom prst="rect">
            <a:avLst/>
          </a:prstGeom>
          <a:ln w="0">
            <a:noFill/>
          </a:ln>
        </p:spPr>
      </p:pic>
      <p:sp>
        <p:nvSpPr>
          <p:cNvPr id="61" name="Управляющая кнопка: далее 11">
            <a:hlinkClick r:id="" action="ppaction://hlinkshowjump?jump=nextslide"/>
          </p:cNvPr>
          <p:cNvSpPr/>
          <p:nvPr/>
        </p:nvSpPr>
        <p:spPr>
          <a:xfrm>
            <a:off x="8215200" y="621504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22605" y="10800"/>
                </a:lnTo>
                <a:lnTo>
                  <a:pt x="859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Object 2"/>
          <p:cNvGraphicFramePr/>
          <p:nvPr/>
        </p:nvGraphicFramePr>
        <p:xfrm>
          <a:off x="4429080" y="2855880"/>
          <a:ext cx="1357200" cy="134640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429080" y="2855880"/>
                    <a:ext cx="135720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1" descr=""/>
          <p:cNvPicPr/>
          <p:nvPr/>
        </p:nvPicPr>
        <p:blipFill>
          <a:blip r:embed="rId1"/>
          <a:stretch/>
        </p:blipFill>
        <p:spPr>
          <a:xfrm>
            <a:off x="-49320" y="-30240"/>
            <a:ext cx="9242640" cy="18525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6" descr="peo-girl[1]"/>
          <p:cNvPicPr/>
          <p:nvPr/>
        </p:nvPicPr>
        <p:blipFill>
          <a:blip r:embed="rId2"/>
          <a:stretch/>
        </p:blipFill>
        <p:spPr>
          <a:xfrm>
            <a:off x="3191040" y="4643280"/>
            <a:ext cx="2259000" cy="192888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7">
            <a:hlinkClick r:id="rId3" action="ppaction://hlinksldjump"/>
          </p:cNvPr>
          <p:cNvSpPr/>
          <p:nvPr/>
        </p:nvSpPr>
        <p:spPr>
          <a:xfrm>
            <a:off x="428760" y="2643120"/>
            <a:ext cx="2428920" cy="1440000"/>
          </a:xfrm>
          <a:prstGeom prst="wedgeRoundRectCallout">
            <a:avLst>
              <a:gd name="adj1" fmla="val 98935"/>
              <a:gd name="adj2" fmla="val 173851"/>
              <a:gd name="adj3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  <a:ea typeface="Arial"/>
              </a:rPr>
              <a:t>Чт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5857920" y="2714760"/>
            <a:ext cx="2500200" cy="1368360"/>
          </a:xfrm>
          <a:prstGeom prst="wedgeRoundRectCallout">
            <a:avLst>
              <a:gd name="adj1" fmla="val -94685"/>
              <a:gd name="adj2" fmla="val 179398"/>
              <a:gd name="adj3" fmla="val 1666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Arial"/>
              </a:rPr>
              <a:t>Кто</a:t>
            </a:r>
            <a:r>
              <a:rPr b="0" lang="ru-RU" sz="40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4" action="ppaction://hlinksldjump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215200" y="621504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22605" y="10800"/>
                </a:lnTo>
                <a:lnTo>
                  <a:pt x="859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5"/>
          <a:stretch/>
        </p:blipFill>
        <p:spPr>
          <a:xfrm>
            <a:off x="0" y="101520"/>
            <a:ext cx="107172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Прямоугольник 1" descr=""/>
          <p:cNvPicPr/>
          <p:nvPr/>
        </p:nvPicPr>
        <p:blipFill>
          <a:blip r:embed="rId1"/>
          <a:stretch/>
        </p:blipFill>
        <p:spPr>
          <a:xfrm>
            <a:off x="-49320" y="328680"/>
            <a:ext cx="9242640" cy="101916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85840" y="2000160"/>
            <a:ext cx="2908080" cy="1144800"/>
          </a:xfrm>
          <a:prstGeom prst="rect">
            <a:avLst/>
          </a:prstGeom>
          <a:ln w="0">
            <a:noFill/>
          </a:ln>
        </p:spPr>
      </p:pic>
      <p:pic>
        <p:nvPicPr>
          <p:cNvPr id="72" name="Прямоугольник 4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000160" y="3071880"/>
            <a:ext cx="2590920" cy="9334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5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713040" y="4071960"/>
            <a:ext cx="1889280" cy="92088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6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5645160" y="5145120"/>
            <a:ext cx="1444680" cy="92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Object 2"/>
          <p:cNvGraphicFramePr/>
          <p:nvPr/>
        </p:nvGraphicFramePr>
        <p:xfrm>
          <a:off x="571680" y="4071960"/>
          <a:ext cx="2189160" cy="245412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76" name="Object 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71680" y="4071960"/>
                    <a:ext cx="2189160" cy="24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3"/>
          <p:cNvGraphicFramePr/>
          <p:nvPr/>
        </p:nvGraphicFramePr>
        <p:xfrm>
          <a:off x="6143760" y="2143080"/>
          <a:ext cx="1677960" cy="2212920"/>
        </p:xfrm>
        <a:graphic>
          <a:graphicData uri="http://schemas.openxmlformats.org/presentationml/2006/ole">
            <p:oleObj progId="Word.Document.12" r:id="rId12" spid="">
              <p:embed/>
              <p:pic>
                <p:nvPicPr>
                  <p:cNvPr id="78" name="Object 3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43760" y="2143080"/>
                    <a:ext cx="1677960" cy="22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Управляющая кнопка: далее 9">
            <a:hlinkClick r:id="" action="ppaction://hlinkshowjump?jump=nextslide"/>
          </p:cNvPr>
          <p:cNvSpPr/>
          <p:nvPr/>
        </p:nvSpPr>
        <p:spPr>
          <a:xfrm>
            <a:off x="8215200" y="621504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22605" y="10800"/>
                </a:lnTo>
                <a:lnTo>
                  <a:pt x="859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рямоугольник 1" descr=""/>
          <p:cNvPicPr/>
          <p:nvPr/>
        </p:nvPicPr>
        <p:blipFill>
          <a:blip r:embed="rId1"/>
          <a:stretch/>
        </p:blipFill>
        <p:spPr>
          <a:xfrm>
            <a:off x="-49320" y="-30240"/>
            <a:ext cx="9242640" cy="1420920"/>
          </a:xfrm>
          <a:prstGeom prst="rect">
            <a:avLst/>
          </a:prstGeom>
          <a:ln w="0">
            <a:noFill/>
          </a:ln>
        </p:spPr>
      </p:pic>
      <p:sp>
        <p:nvSpPr>
          <p:cNvPr id="81" name="Скругленный прямоугольник 2">
            <a:hlinkClick r:id="rId2" action="ppaction://hlinksldjump"/>
          </p:cNvPr>
          <p:cNvSpPr/>
          <p:nvPr/>
        </p:nvSpPr>
        <p:spPr>
          <a:xfrm>
            <a:off x="1143000" y="3214800"/>
            <a:ext cx="5643720" cy="711000"/>
          </a:xfrm>
          <a:prstGeom prst="roundRect">
            <a:avLst>
              <a:gd name="adj" fmla="val 47778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alibri"/>
              </a:rPr>
              <a:t>Мама, папа, брат, сес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285840" y="4214880"/>
            <a:ext cx="7500960" cy="711000"/>
          </a:xfrm>
          <a:prstGeom prst="roundRect">
            <a:avLst>
              <a:gd name="adj" fmla="val 47778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alibri"/>
              </a:rPr>
              <a:t>Груша, яблоко, апельсин , лим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428760" y="5500800"/>
            <a:ext cx="7286400" cy="711000"/>
          </a:xfrm>
          <a:prstGeom prst="roundRect">
            <a:avLst>
              <a:gd name="adj" fmla="val 47778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alibri"/>
              </a:rPr>
              <a:t>Пароход, автобус, вертолет, мет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2"/>
          <p:cNvGraphicFramePr/>
          <p:nvPr/>
        </p:nvGraphicFramePr>
        <p:xfrm>
          <a:off x="8215200" y="0"/>
          <a:ext cx="663840" cy="1487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15200" y="0"/>
                    <a:ext cx="66384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Object 3"/>
          <p:cNvGraphicFramePr/>
          <p:nvPr/>
        </p:nvGraphicFramePr>
        <p:xfrm>
          <a:off x="3643200" y="1285920"/>
          <a:ext cx="1714680" cy="18018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43200" y="1285920"/>
                    <a:ext cx="171468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215200" y="621504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22605" y="10800"/>
                </a:lnTo>
                <a:lnTo>
                  <a:pt x="859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Прямоугольник 1" descr=""/>
          <p:cNvPicPr/>
          <p:nvPr/>
        </p:nvPicPr>
        <p:blipFill>
          <a:blip r:embed="rId1"/>
          <a:stretch/>
        </p:blipFill>
        <p:spPr>
          <a:xfrm>
            <a:off x="-49320" y="-30240"/>
            <a:ext cx="9242640" cy="142092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ый прямоугольник 2"/>
          <p:cNvSpPr/>
          <p:nvPr/>
        </p:nvSpPr>
        <p:spPr>
          <a:xfrm>
            <a:off x="1143000" y="3214800"/>
            <a:ext cx="5643720" cy="711000"/>
          </a:xfrm>
          <a:prstGeom prst="roundRect">
            <a:avLst>
              <a:gd name="adj" fmla="val 47778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alibri"/>
              </a:rPr>
              <a:t>Мама, папа, брат, сест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Скругленный прямоугольник 3"/>
          <p:cNvSpPr/>
          <p:nvPr/>
        </p:nvSpPr>
        <p:spPr>
          <a:xfrm>
            <a:off x="285840" y="4214880"/>
            <a:ext cx="7500960" cy="711000"/>
          </a:xfrm>
          <a:prstGeom prst="roundRect">
            <a:avLst>
              <a:gd name="adj" fmla="val 47778"/>
            </a:avLst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alibri"/>
              </a:rPr>
              <a:t>Груша, яблоко, апельсин , лим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Скругленный прямоугольник 4"/>
          <p:cNvSpPr/>
          <p:nvPr/>
        </p:nvSpPr>
        <p:spPr>
          <a:xfrm>
            <a:off x="428760" y="5500800"/>
            <a:ext cx="7286400" cy="711000"/>
          </a:xfrm>
          <a:prstGeom prst="roundRect">
            <a:avLst>
              <a:gd name="adj" fmla="val 47778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alibri"/>
              </a:rPr>
              <a:t>Пароход, автобус, вертолет, метр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2"/>
          <p:cNvGraphicFramePr/>
          <p:nvPr/>
        </p:nvGraphicFramePr>
        <p:xfrm>
          <a:off x="8215200" y="0"/>
          <a:ext cx="663840" cy="1487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4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15200" y="0"/>
                    <a:ext cx="66384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3"/>
          <p:cNvGraphicFramePr/>
          <p:nvPr/>
        </p:nvGraphicFramePr>
        <p:xfrm>
          <a:off x="3643200" y="1285920"/>
          <a:ext cx="1714680" cy="18018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643200" y="1285920"/>
                    <a:ext cx="171468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8215200" y="621504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22605" y="10800"/>
                </a:lnTo>
                <a:lnTo>
                  <a:pt x="8592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2" descr=""/>
          <p:cNvPicPr/>
          <p:nvPr/>
        </p:nvPicPr>
        <p:blipFill>
          <a:blip r:embed="rId1"/>
          <a:stretch/>
        </p:blipFill>
        <p:spPr>
          <a:xfrm>
            <a:off x="-12600" y="347760"/>
            <a:ext cx="9169200" cy="135252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3" descr=""/>
          <p:cNvPicPr/>
          <p:nvPr/>
        </p:nvPicPr>
        <p:blipFill>
          <a:blip r:embed="rId2"/>
          <a:stretch/>
        </p:blipFill>
        <p:spPr>
          <a:xfrm>
            <a:off x="2773440" y="1847880"/>
            <a:ext cx="3157560" cy="94464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4" descr=""/>
          <p:cNvPicPr/>
          <p:nvPr/>
        </p:nvPicPr>
        <p:blipFill>
          <a:blip r:embed="rId3"/>
          <a:stretch/>
        </p:blipFill>
        <p:spPr>
          <a:xfrm>
            <a:off x="2414520" y="3060720"/>
            <a:ext cx="3827520" cy="944640"/>
          </a:xfrm>
          <a:prstGeom prst="rect">
            <a:avLst/>
          </a:prstGeom>
          <a:ln w="0">
            <a:noFill/>
          </a:ln>
        </p:spPr>
      </p:pic>
      <p:pic>
        <p:nvPicPr>
          <p:cNvPr id="101" name="Прямоугольник 5" descr=""/>
          <p:cNvPicPr/>
          <p:nvPr/>
        </p:nvPicPr>
        <p:blipFill>
          <a:blip r:embed="rId4"/>
          <a:stretch/>
        </p:blipFill>
        <p:spPr>
          <a:xfrm>
            <a:off x="3560760" y="4133880"/>
            <a:ext cx="1633680" cy="94464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6" descr=""/>
          <p:cNvPicPr/>
          <p:nvPr/>
        </p:nvPicPr>
        <p:blipFill>
          <a:blip r:embed="rId5"/>
          <a:stretch/>
        </p:blipFill>
        <p:spPr>
          <a:xfrm>
            <a:off x="3133800" y="5273640"/>
            <a:ext cx="2651040" cy="95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3" name="Object 3"/>
          <p:cNvGraphicFramePr/>
          <p:nvPr/>
        </p:nvGraphicFramePr>
        <p:xfrm>
          <a:off x="6357960" y="3714840"/>
          <a:ext cx="2322360" cy="2428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357960" y="3714840"/>
                    <a:ext cx="232236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5" name="Picture 2" descr="C:\Users\Надежда\Desktop\faq_news_jpg.jpg"/>
          <p:cNvPicPr/>
          <p:nvPr/>
        </p:nvPicPr>
        <p:blipFill>
          <a:blip r:embed="rId8"/>
          <a:stretch/>
        </p:blipFill>
        <p:spPr>
          <a:xfrm>
            <a:off x="285840" y="414324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106" name="Управляющая кнопка: в конец 11">
            <a:hlinkClick r:id="" action="ppaction://hlinkshowjump?jump=lastslide"/>
          </p:cNvPr>
          <p:cNvSpPr/>
          <p:nvPr/>
        </p:nvSpPr>
        <p:spPr>
          <a:xfrm>
            <a:off x="8215200" y="6286680"/>
            <a:ext cx="928800" cy="571320"/>
          </a:xfrm>
          <a:custGeom>
            <a:avLst/>
            <a:gdLst>
              <a:gd name="textAreaLeft" fmla="*/ 36720 w 928800"/>
              <a:gd name="textAreaRight" fmla="*/ 892080 w 9288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35107" h="21600">
                <a:moveTo>
                  <a:pt x="0" y="0"/>
                </a:moveTo>
                <a:lnTo>
                  <a:pt x="35107" y="0"/>
                </a:lnTo>
                <a:lnTo>
                  <a:pt x="35107" y="21600"/>
                </a:lnTo>
                <a:lnTo>
                  <a:pt x="0" y="21600"/>
                </a:lnTo>
                <a:close/>
              </a:path>
              <a:path fill="lightenLess" w="35107" h="21600">
                <a:moveTo>
                  <a:pt x="0" y="0"/>
                </a:moveTo>
                <a:lnTo>
                  <a:pt x="35107" y="0"/>
                </a:lnTo>
                <a:lnTo>
                  <a:pt x="33707" y="1400"/>
                </a:lnTo>
                <a:lnTo>
                  <a:pt x="1400" y="1400"/>
                </a:lnTo>
                <a:close/>
              </a:path>
              <a:path fill="darken" w="35107" h="21600">
                <a:moveTo>
                  <a:pt x="35107" y="0"/>
                </a:moveTo>
                <a:lnTo>
                  <a:pt x="35107" y="21600"/>
                </a:lnTo>
                <a:lnTo>
                  <a:pt x="33707" y="20200"/>
                </a:lnTo>
                <a:lnTo>
                  <a:pt x="33707" y="1400"/>
                </a:lnTo>
                <a:close/>
              </a:path>
              <a:path fill="darkenLess" w="35107" h="21600">
                <a:moveTo>
                  <a:pt x="35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7" y="20200"/>
                </a:lnTo>
                <a:close/>
              </a:path>
              <a:path fill="lighten" w="35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7" h="21600">
                <a:moveTo>
                  <a:pt x="21052" y="10800"/>
                </a:moveTo>
                <a:lnTo>
                  <a:pt x="10547" y="17806"/>
                </a:lnTo>
                <a:lnTo>
                  <a:pt x="10547" y="3794"/>
                </a:lnTo>
                <a:close/>
              </a:path>
              <a:path fill="darken" w="35107" h="21600">
                <a:moveTo>
                  <a:pt x="22897" y="3794"/>
                </a:moveTo>
                <a:lnTo>
                  <a:pt x="22897" y="17806"/>
                </a:lnTo>
                <a:lnTo>
                  <a:pt x="24560" y="17806"/>
                </a:lnTo>
                <a:lnTo>
                  <a:pt x="24560" y="379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28" descr="MAGIC"/>
          <p:cNvPicPr/>
          <p:nvPr/>
        </p:nvPicPr>
        <p:blipFill>
          <a:blip r:embed="rId1"/>
          <a:stretch/>
        </p:blipFill>
        <p:spPr>
          <a:xfrm>
            <a:off x="2286000" y="2143080"/>
            <a:ext cx="5832360" cy="3729240"/>
          </a:xfrm>
          <a:prstGeom prst="rect">
            <a:avLst/>
          </a:prstGeom>
          <a:ln w="0">
            <a:noFill/>
          </a:ln>
        </p:spPr>
      </p:pic>
      <p:sp>
        <p:nvSpPr>
          <p:cNvPr id="108" name="WordArt 129"/>
          <p:cNvSpPr txBox="1"/>
          <p:nvPr/>
        </p:nvSpPr>
        <p:spPr>
          <a:xfrm>
            <a:off x="4572000" y="3929040"/>
            <a:ext cx="2857680" cy="65088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Молодец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09" name="Управляющая кнопка: возврат 5">
            <a:hlinkClick r:id="" action="ppaction://hlinkshowjump?jump=previousslide"/>
          </p:cNvPr>
          <p:cNvSpPr/>
          <p:nvPr/>
        </p:nvSpPr>
        <p:spPr>
          <a:xfrm>
            <a:off x="8101080" y="6286680"/>
            <a:ext cx="1042920" cy="571320"/>
          </a:xfrm>
          <a:custGeom>
            <a:avLst/>
            <a:gdLst>
              <a:gd name="textAreaLeft" fmla="*/ 36720 w 1042920"/>
              <a:gd name="textAreaRight" fmla="*/ 1006200 w 104292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39419" h="21600">
                <a:moveTo>
                  <a:pt x="0" y="0"/>
                </a:moveTo>
                <a:lnTo>
                  <a:pt x="39419" y="0"/>
                </a:lnTo>
                <a:lnTo>
                  <a:pt x="39419" y="21600"/>
                </a:lnTo>
                <a:lnTo>
                  <a:pt x="0" y="21600"/>
                </a:lnTo>
                <a:close/>
              </a:path>
              <a:path fill="lightenLess" w="39419" h="21600">
                <a:moveTo>
                  <a:pt x="0" y="0"/>
                </a:moveTo>
                <a:lnTo>
                  <a:pt x="39419" y="0"/>
                </a:lnTo>
                <a:lnTo>
                  <a:pt x="38019" y="1400"/>
                </a:lnTo>
                <a:lnTo>
                  <a:pt x="1400" y="1400"/>
                </a:lnTo>
                <a:close/>
              </a:path>
              <a:path fill="darken" w="39419" h="21600">
                <a:moveTo>
                  <a:pt x="39419" y="0"/>
                </a:moveTo>
                <a:lnTo>
                  <a:pt x="39419" y="21600"/>
                </a:lnTo>
                <a:lnTo>
                  <a:pt x="38019" y="20200"/>
                </a:lnTo>
                <a:lnTo>
                  <a:pt x="38019" y="1400"/>
                </a:lnTo>
                <a:close/>
              </a:path>
              <a:path fill="darkenLess" w="39419" h="21600">
                <a:moveTo>
                  <a:pt x="39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19" y="20200"/>
                </a:lnTo>
                <a:close/>
              </a:path>
              <a:path fill="lighten" w="39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19" h="21600">
                <a:moveTo>
                  <a:pt x="12703" y="7493"/>
                </a:moveTo>
                <a:lnTo>
                  <a:pt x="16210" y="7493"/>
                </a:lnTo>
                <a:lnTo>
                  <a:pt x="16210" y="12828"/>
                </a:lnTo>
                <a:cubicBezTo>
                  <a:pt x="16210" y="13751"/>
                  <a:pt x="17011" y="14482"/>
                  <a:pt x="18047" y="14482"/>
                </a:cubicBezTo>
                <a:lnTo>
                  <a:pt x="19709" y="14482"/>
                </a:lnTo>
                <a:cubicBezTo>
                  <a:pt x="20745" y="14482"/>
                  <a:pt x="21546" y="13751"/>
                  <a:pt x="21546" y="12828"/>
                </a:cubicBezTo>
                <a:lnTo>
                  <a:pt x="21546" y="7493"/>
                </a:lnTo>
                <a:lnTo>
                  <a:pt x="19709" y="7493"/>
                </a:lnTo>
                <a:lnTo>
                  <a:pt x="23217" y="3985"/>
                </a:lnTo>
                <a:lnTo>
                  <a:pt x="26890" y="7493"/>
                </a:lnTo>
                <a:lnTo>
                  <a:pt x="25053" y="7493"/>
                </a:lnTo>
                <a:lnTo>
                  <a:pt x="25053" y="12828"/>
                </a:lnTo>
                <a:cubicBezTo>
                  <a:pt x="25053" y="15596"/>
                  <a:pt x="22477" y="18155"/>
                  <a:pt x="19709" y="18155"/>
                </a:cubicBezTo>
                <a:lnTo>
                  <a:pt x="18047" y="18155"/>
                </a:lnTo>
                <a:cubicBezTo>
                  <a:pt x="15279" y="18155"/>
                  <a:pt x="12703" y="15596"/>
                  <a:pt x="12703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4T12:28:34Z</dcterms:created>
  <dc:creator>Киреев Дмитрий</dc:creator>
  <dc:description/>
  <dc:language>en-US</dc:language>
  <cp:lastModifiedBy>Пользователь Windows</cp:lastModifiedBy>
  <dcterms:modified xsi:type="dcterms:W3CDTF">2022-06-19T19:02:04Z</dcterms:modified>
  <cp:revision>21</cp:revision>
  <dc:subject/>
  <dc:title>Слайд 1</dc:title>
</cp:coreProperties>
</file>